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52A-18FE-414D-9615-50AE500B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A4A-6FFB-4D1A-9148-F45FF062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A6798-653A-4DF8-8168-EECD95AD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AF01F-600C-4090-A639-957AEDE8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B2076-5201-433D-B918-A6C2A39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62F98-5149-462A-8A25-C38D4AA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C5649-E506-4458-9CC4-F539BC7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E1C27-1169-41F0-9DD7-F8D2DF3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750C2-636F-489F-93E2-E9B292F7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E2750-6D23-4DE7-B365-0F4EBDE2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31413-6BA8-487D-8B71-0A781208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FE3DD-B530-4874-9755-F1944546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762-F24F-41CC-97C3-AB00110A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7E9F2-D60B-49A1-B358-28FA845B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E5A78-345C-49AE-B07D-101A0056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107E1-8EB2-4C9C-A032-7B3B943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737A5-BF52-4D4F-BC4A-61943204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15F83-18AE-4217-9C2E-C8E3C99C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3001C-792E-4B36-8050-F2669C9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72865-CC02-4F62-96CE-12BAAA6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7CCD1-C169-43E5-8C91-4B2A86A9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C4336-CE97-428D-8125-6BA7E2B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FE0D3-29AB-4485-AFA4-2758F131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F2A-14F8-4A6F-BB9B-3C8CE6B0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71FD6-DB8C-48CE-8674-98B643C9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16F16-8CE6-454B-BCC4-3D30F4C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7DE4D-B0D5-4D67-AC14-1C66C5D3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F6DDE-8D08-41A9-81D8-19895E2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48653-AF66-4795-83D8-CE733D62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7BFB7-F9DC-43D3-BDF1-AD3F296A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6BA2C-4A5D-4340-B88F-8C14065D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57385-9F2E-442C-8E25-DA1ABF1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FA601-F3AE-4BC5-8A24-10D68E5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3BCAB-AD5D-4034-8751-C17F3FE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C996-5828-477E-91AC-9789BDE2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4586F-082C-4932-8E01-94EED3C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9951D-ECE4-408C-8E95-0A0FF76A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0A350-01ED-495E-93E9-2A8DB536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62AE-E1D2-4BE1-839D-AA08EFDD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6EC1-39F4-48A6-ACDB-F566EF89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3893-F049-482F-A12D-9208876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0153-5C57-46AB-8DD9-EDE5FA6F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ABC3-5A9B-4166-8AC7-172F2C1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5964-0BE2-428F-8955-C5AAE7C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FD8-EE9C-4A86-A53D-7C6193CA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16E0-7EEB-430C-85ED-9F9ECB3A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435A-5D29-426D-A426-21DBE91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6E5-783F-4095-B6F5-7EF57065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5602-AE68-4701-9377-2A2E827F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25A4-9CD1-45B3-BE61-17C93095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32A0-25EE-4D33-A8A5-865FF5E0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618B-9DDD-4CE4-AC65-10A8AE81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6B7E-5649-43D8-A671-B969F87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4564-1962-45A5-A41C-78C8321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8857-9D22-4E85-B9D9-6D29BEF7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B13-EB26-492C-9595-313D805D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30FD-D335-4A94-A556-41D0C60D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717A-5380-4582-B4BA-D29B1CAE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16E1-CFB0-447A-A0C2-3AB3D336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39B2-B2A5-4F1B-B03E-6F99D494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A317-DA99-46AE-B04F-8818ECD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7C0E-6923-4C5A-84CB-A12E21C8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D94A-A5CE-4DCD-B7EB-01350E7D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420B-09A8-4DC9-B88A-848EC14E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DE90-9AB8-42C7-82C5-A9F3F49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F6A4-1D4D-45F0-A85E-310A2340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F26-1BAD-4DFB-924B-13F0F18E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A7DF-2B6D-4DAF-9F23-B6326D2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4F48-DD27-4994-972A-A01D9F81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7590-5884-4CD6-AEF8-D7939532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C98B-2632-4C91-800D-9472AA6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D1A1C-FD7B-4356-9198-B8EFDF4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F50A6-98CE-4B88-AB6C-3901EAD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C66D-FA3D-41D7-9420-42ABAB8A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69A5-5CAF-4509-9454-EDEFFB3C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8768-FB24-4E62-B2AB-F0CE1BFA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6540-73C8-4654-A32E-69FE120D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D9B-330C-43EF-9273-85006950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D696F-79D6-4876-B4CC-8CA11990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3E89-FE3C-4F72-A0BA-51FF443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F19A4-E1EA-4DEE-B0DC-D1A5A1DA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2308-74C5-460A-80AD-B88C521C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05BC3-EBBD-4C9A-A217-FF64ACA8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F0726-0E45-4C9E-96B0-672DE83F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DFF3-A544-4D15-8545-229B28A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AA41D-E76C-409B-A26E-BD2F56DF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CF1D3-0AF8-4ABB-9D59-FED10B7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801E-007F-4859-A5AB-63E383ED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1BA-CF5D-48FC-958D-47B588C0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1084-0D57-4580-BAC3-550F4975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5FBF-EB80-465B-BC24-2F634628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63C88-0443-4BCC-990F-7F5EA973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83673-A6FB-447E-9220-A11E69EF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363B-DC64-4BC4-8345-DA823257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47FDC-6BF0-4FB3-9EB9-9FBDD0D4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6BAE-EDDD-48E4-ABE9-DE9CEC8E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036F-0184-4C43-ADF7-F8366D31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F352D-FA1E-4285-B8F8-162C9D3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649B-D798-4EF0-A6AD-B61126F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5DA-8261-4B5C-A161-4A9D3A2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1D771-6817-44A3-AACA-9B3815C8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330D-908F-41F1-96E8-1AD9F3A7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C4E3-358B-4428-AB5F-1B6BCB93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04A33-855F-4D49-9611-7F63D259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D3A9-7EE8-4838-9200-F231E77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B236-13D2-4EDC-A842-F11267D1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5979-3A94-42A1-BA3B-87647870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30B7-0618-4E68-A210-669AE34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4D91-2E48-4E08-BFDA-6DE7BE0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BA528-A7CC-4FC6-8889-66B9D3D1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964-4374-47FA-97BA-694C7CD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FE035-732A-4037-BD17-B1E9B52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1370-0E52-4E04-8F28-7E88866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3BB93-1C02-4730-AAE5-91886865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30C5-B40C-448B-AFC7-01CFFAB1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55295-7E03-4800-ADD8-FFDC8437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5845-5585-4904-BC7A-0E017F92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234D-FBEB-4E45-BF50-24D0982B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41B6D-9717-4092-B197-41735A06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ADCF7-1E99-4A5D-9A70-386B931A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925D-839E-42B4-BF70-0330148F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98D-F0A7-4898-AF00-848E3DD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C4814-27E1-4BA9-9580-04CC726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66E5-AF09-4D37-9224-CE8DC61C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0D7C-1CE8-459B-886D-6415F84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0B98B-CBA7-4ABA-A7E5-134B6EF9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3C6CD-F61D-4845-BBC3-50E1E7B7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5B1F7-5A19-42C8-93B4-582466A0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78FF-D093-44A1-A5EA-19AB0920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620FD-0534-45F9-B2CC-3DF2097D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5F5B5-9F9E-4A7E-9006-C26BB6BC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4F9C4-72AF-4310-838A-445B317B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FF1F-4A1F-45B7-876E-1609D1E00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9F4C-1266-4C4A-825E-683CFDBD6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9714-B2EC-43C4-A41A-4A2954AEF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048-C54F-4F1E-9745-EE0E4B439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0DED-2A7B-49C9-B659-783B65A2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C122-D37A-4768-8A87-0FD9FDDC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768E-CAD2-41B8-9CC5-1430F272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26E2-4181-44D2-A1B2-2901CE913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A15B-B1B0-4C99-9FD1-2B915E9D6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193A-4C38-4B1D-A924-C2E62CB10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0AFF-7932-4804-9964-6CAF0806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700"/>
            </a:b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g    k   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D9A-C2FB-4978-8B0F-A3C5AECF9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229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6"/>
          <p:cNvSpPr txBox="1"/>
          <p:nvPr/>
        </p:nvSpPr>
        <p:spPr>
          <a:xfrm>
            <a:off x="2484360" y="2565360"/>
            <a:ext cx="4392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714A-74B5-46DC-922C-126EEB76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男孩在路上帮奶奶推车，路人问小红“帮推车的是你弟弟吗？”小红说“不是。”请问那个男孩是小红的什么？ 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1_201004180558502teFZ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076640"/>
            <a:ext cx="2163600" cy="257328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64B1-5BE8-471A-9BAF-94A074B0A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种动物小的时候没有腿，长大了有四条腿，还变 了名字叫青蛙，请问它小时候叫什么？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1_2010041805585018IV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732720" y="4797360"/>
            <a:ext cx="2087280" cy="175428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2B9-4094-4626-99A0-1CC343BE5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230_091039E4"/>
          <p:cNvPicPr/>
          <p:nvPr/>
        </p:nvPicPr>
        <p:blipFill>
          <a:blip r:embed="rId1"/>
          <a:stretch/>
        </p:blipFill>
        <p:spPr>
          <a:xfrm>
            <a:off x="0" y="0"/>
            <a:ext cx="8964720" cy="31417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5"/>
          <p:cNvSpPr/>
          <p:nvPr/>
        </p:nvSpPr>
        <p:spPr>
          <a:xfrm>
            <a:off x="611280" y="407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只动物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0f69ce3d852686694e63260a62c898a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0360" y="4365720"/>
            <a:ext cx="2657520" cy="216036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FE36-344A-4069-A039-076C22C79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gkh"/>
          <p:cNvPicPr/>
          <p:nvPr/>
        </p:nvPicPr>
        <p:blipFill>
          <a:blip r:embed="rId1"/>
          <a:srcRect l="0" t="0" r="2052" b="0"/>
          <a:stretch/>
        </p:blipFill>
        <p:spPr>
          <a:xfrm>
            <a:off x="-181080" y="-171360"/>
            <a:ext cx="9506160" cy="7172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3492360" y="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700360" y="29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3924360" y="537372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291-FAE2-45E0-A8C4-E6D356EA0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39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20140118133113555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7057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900000" y="1197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116000" y="90792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  <a:ea typeface="隶书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4B01-6118-41EA-9D4C-BFF1B8C25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20140118133113302"/>
          <p:cNvPicPr/>
          <p:nvPr/>
        </p:nvPicPr>
        <p:blipFill>
          <a:blip r:embed="rId2"/>
          <a:stretch/>
        </p:blipFill>
        <p:spPr>
          <a:xfrm>
            <a:off x="0" y="0"/>
            <a:ext cx="8893080" cy="6665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6"/>
          <p:cNvSpPr/>
          <p:nvPr/>
        </p:nvSpPr>
        <p:spPr>
          <a:xfrm>
            <a:off x="6659640" y="43657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8489-9A1A-47BB-961C-2172E375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823935860778015"/>
          <p:cNvPicPr/>
          <p:nvPr/>
        </p:nvPicPr>
        <p:blipFill>
          <a:blip r:embed="rId2"/>
          <a:stretch/>
        </p:blipFill>
        <p:spPr>
          <a:xfrm>
            <a:off x="430200" y="-387360"/>
            <a:ext cx="8713800" cy="74278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00000" y="9079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36AB-8C55-4D11-B0B2-043504D7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5" descr=""/>
          <p:cNvPicPr/>
          <p:nvPr/>
        </p:nvPicPr>
        <p:blipFill>
          <a:blip r:embed="rId1"/>
          <a:stretch/>
        </p:blipFill>
        <p:spPr>
          <a:xfrm>
            <a:off x="-687240" y="1909800"/>
            <a:ext cx="26985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14"/>
          <p:cNvGrpSpPr/>
          <p:nvPr/>
        </p:nvGrpSpPr>
        <p:grpSpPr>
          <a:xfrm>
            <a:off x="2484360" y="692280"/>
            <a:ext cx="5904000" cy="5330520"/>
            <a:chOff x="2484360" y="692280"/>
            <a:chExt cx="5904000" cy="5330520"/>
          </a:xfrm>
        </p:grpSpPr>
        <p:pic>
          <p:nvPicPr>
            <p:cNvPr id="494" name="Picture 9" descr="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575964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3"/>
            <a:srcRect l="25634" t="36196" r="34490" b="58089"/>
            <a:stretch/>
          </p:blipFill>
          <p:spPr>
            <a:xfrm>
              <a:off x="2484360" y="1197000"/>
              <a:ext cx="5832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"/>
            <p:cNvPicPr/>
            <p:nvPr/>
          </p:nvPicPr>
          <p:blipFill>
            <a:blip r:embed="rId4"/>
            <a:srcRect l="25634" t="48477" r="34490" b="46641"/>
            <a:stretch/>
          </p:blipFill>
          <p:spPr>
            <a:xfrm>
              <a:off x="2556000" y="2421000"/>
              <a:ext cx="5832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1" descr=""/>
            <p:cNvPicPr/>
            <p:nvPr/>
          </p:nvPicPr>
          <p:blipFill>
            <a:blip r:embed="rId5"/>
            <a:srcRect l="25634" t="59098" r="34490" b="36004"/>
            <a:stretch/>
          </p:blipFill>
          <p:spPr>
            <a:xfrm>
              <a:off x="2484360" y="3500280"/>
              <a:ext cx="5832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2" descr=""/>
            <p:cNvPicPr/>
            <p:nvPr/>
          </p:nvPicPr>
          <p:blipFill>
            <a:blip r:embed="rId6"/>
            <a:srcRect l="25634" t="68908" r="34490" b="26195"/>
            <a:stretch/>
          </p:blipFill>
          <p:spPr>
            <a:xfrm>
              <a:off x="2556000" y="4508640"/>
              <a:ext cx="5832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3" descr=""/>
            <p:cNvPicPr/>
            <p:nvPr/>
          </p:nvPicPr>
          <p:blipFill>
            <a:blip r:embed="rId7"/>
            <a:srcRect l="25634" t="79544" r="34490" b="15539"/>
            <a:stretch/>
          </p:blipFill>
          <p:spPr>
            <a:xfrm>
              <a:off x="2556000" y="5589720"/>
              <a:ext cx="583236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E97-E93F-42B2-9080-74C26D714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1:28:26Z</dcterms:created>
  <dc:creator/>
  <dc:description/>
  <cp:keywords/>
  <dc:language>en-US</dc:language>
  <cp:lastModifiedBy>User</cp:lastModifiedBy>
  <dcterms:modified xsi:type="dcterms:W3CDTF">2016-10-05T12:13:51Z</dcterms:modified>
  <cp:revision>43</cp:revision>
  <dc:subject/>
  <dc:title>  g    k    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